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67F46-7DA7-400B-9537-06422FE848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292EA-DA2D-48A9-83C2-1DE87271E0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C379A-3EAA-405E-96D5-4506E851C7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2EE47-4422-43B2-B81A-3E35DC55FB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076B0-39C4-47EB-B594-EE8D73A370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20CD5-DFFD-40A6-8180-F3A14F5EE5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5D885-D3ED-48CC-AE11-0417289D9E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62315-4627-43B6-8163-7FE9C326D1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7BF75-B629-4C35-A84C-936C877524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85DB-F054-46B1-BACE-31F296C2A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02A6-6787-4CF3-81D8-4F6EBFDB8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DA2A-F35F-4104-913B-BD7F93E57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22B3-D4A3-4823-A9DD-0B3538C9A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0FD64-A590-4274-B6DB-888D88C5C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C27EC-2460-4157-B486-9CB99A1FC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B602E-81CC-42BB-893C-1DDD2FDA7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4CF12-15F6-4E61-A83D-767E5D1F5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587AE-86BE-48F8-A8C5-45F7CB8F6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91C04-2C43-4D78-A9C5-093740D07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51D7A-9178-4DAD-9E34-4C59918B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A9A5-FACD-4F31-8DB0-04D943073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9EE2F-7875-4C7F-B753-483744BD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CACAE-9ED7-4D0E-9E50-62BA9EE5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0A706-4083-43FF-A530-6EE2C96FC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4D60B-7179-409F-AB22-1B77229E8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471F6-FEBD-40C9-8942-ADFEB0A3D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BF0EB-5BCE-46FD-8742-F232F9853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6FFB3-79F2-44C5-BFDD-0FC70E68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098EC-3EBD-4E01-A583-F5E7FEC76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28DDD-BE35-4886-8BFC-4831E29E6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D2762-B15D-4E0E-A7C2-AF998FF35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F626-DEE1-4707-A9C8-139165345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15BAC-E991-4766-B5F4-E308718DE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B0699-A11C-4828-9FAC-14AF87DE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44F2E-FE4E-475D-97B2-ED3F8C5C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46976-95FC-49C2-839F-0E727558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67D69-7C08-491E-AB5C-5F886DA15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73915-CBED-4500-8455-774FBC833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48647-4D1F-4341-9841-A92A03254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67E56-2128-45D7-9AC0-55F13E04A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A255E-B98E-455D-9098-AEF6FB0B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9E8A5-5F0C-44CF-9C03-6A2A8DA50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430A-18EF-4AB6-B966-579F9783E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E0580-A112-4F96-BD8C-44B2B1809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5A42F-8510-4147-A9D8-83B4C1830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E99EA-C70C-4CF9-9390-015ADDD6D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830AB-3DAD-4218-B19D-1C307832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039D9-8785-410B-8C65-C4515E3A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1355B-DC0C-4001-800B-2E0A6555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5468E-3759-4899-9DA1-9FC643443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91E6D-29A0-4074-9F0D-0FF37F3C7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93AE4-2BB3-4CED-998A-99B1F54DD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268E0-70AE-44A6-9CD8-258DCCC29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1771-5D41-4614-BD71-057D32E0A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DDB19-EF2D-4167-9EA2-A4B87E44B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CA2AF-1B6E-4016-A5CC-D57C9C779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D1889-FB20-4FC6-A58D-309D20C77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3A768-9B54-4283-918F-E4B77BC39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F7135-47D8-4411-B9A4-66602E5EA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EAC45-8C43-4891-8BC1-41413B6C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C8096-62D9-474C-AAB9-56A9F3C8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D211C-E439-49AD-BFA2-9A1B10D9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A09A9-111C-43DF-AC0B-D6474C7FD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D74EE-21DD-4ABA-9079-A5D9DFBD9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ED18-BF8D-458B-A011-267E21C9B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9A9F6-A725-4447-966F-8D102D641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9913-9AA1-450C-B8F1-59A292AE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CA01-3B89-4028-88C6-49721C6E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6609-D5FA-431D-BA6A-C06CFC48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01C03-43A5-4E7F-B75D-33C0307BA0E5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F63A9-1900-409E-8E49-8642A5D71820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8DC79-C8A4-4CCF-B776-70F50D350B4F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FAC2F-95EA-46DA-835B-EC39EABFBD49}" type="slidenum">
              <a:rPr b="0" lang="en-U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2FCF9-AAAD-4C50-B473-72FC72311609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le 1" descr=""/>
          <p:cNvPicPr/>
          <p:nvPr/>
        </p:nvPicPr>
        <p:blipFill>
          <a:blip r:embed="rId1"/>
          <a:stretch/>
        </p:blipFill>
        <p:spPr>
          <a:xfrm>
            <a:off x="3090960" y="536400"/>
            <a:ext cx="5656320" cy="319428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201 INTRO TO LITERATURE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Prof. Everson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Title 1" descr=""/>
          <p:cNvPicPr/>
          <p:nvPr/>
        </p:nvPicPr>
        <p:blipFill>
          <a:blip r:embed="rId1"/>
          <a:stretch/>
        </p:blipFill>
        <p:spPr>
          <a:xfrm>
            <a:off x="60480" y="122400"/>
            <a:ext cx="7486560" cy="1011240"/>
          </a:xfrm>
          <a:prstGeom prst="rect">
            <a:avLst/>
          </a:prstGeom>
          <a:ln w="0">
            <a:noFill/>
          </a:ln>
        </p:spPr>
      </p:pic>
      <p:sp>
        <p:nvSpPr>
          <p:cNvPr id="312" name="TextBox 2"/>
          <p:cNvSpPr/>
          <p:nvPr/>
        </p:nvSpPr>
        <p:spPr>
          <a:xfrm>
            <a:off x="228600" y="838080"/>
            <a:ext cx="7696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Exampl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6"/>
          <p:cNvSpPr/>
          <p:nvPr/>
        </p:nvSpPr>
        <p:spPr>
          <a:xfrm>
            <a:off x="152280" y="1523880"/>
            <a:ext cx="259092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c1f34"/>
                </a:solidFill>
                <a:latin typeface="Arial"/>
              </a:rPr>
              <a:t>Flat charact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c1f34"/>
                </a:solidFill>
                <a:latin typeface="Arial"/>
              </a:rPr>
              <a:t>-simple, expresses 1 or 2 characteristics ; stereotypes or arche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2"/>
          <p:cNvSpPr/>
          <p:nvPr/>
        </p:nvSpPr>
        <p:spPr>
          <a:xfrm>
            <a:off x="2819520" y="1598760"/>
            <a:ext cx="524016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Hummingbird” un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ida and Taro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8"/>
          <p:cNvSpPr/>
          <p:nvPr/>
        </p:nvSpPr>
        <p:spPr>
          <a:xfrm>
            <a:off x="152280" y="3886200"/>
            <a:ext cx="281952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c1f34"/>
                </a:solidFill>
                <a:latin typeface="Arial"/>
              </a:rPr>
              <a:t>Round charact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c1f34"/>
                </a:solidFill>
                <a:latin typeface="Arial"/>
              </a:rPr>
              <a:t>-complex, internal conflicts; like real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2819520" y="3505320"/>
            <a:ext cx="5257800" cy="100872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 Wars III” Revenge of the Sith” by George Lu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akin, Obi Wan Kenobi, Chan. Pala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2"/>
          <p:cNvSpPr/>
          <p:nvPr/>
        </p:nvSpPr>
        <p:spPr>
          <a:xfrm>
            <a:off x="2819520" y="2568600"/>
            <a:ext cx="524016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ven Thousand Virgins” Coll y To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shop Trespalacios, Gen. Abercromb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3"/>
          <p:cNvSpPr/>
          <p:nvPr/>
        </p:nvSpPr>
        <p:spPr>
          <a:xfrm>
            <a:off x="2819520" y="4648320"/>
            <a:ext cx="5240160" cy="70380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akespeare in Love” by John Mad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(Shakespeare), Viola (de Lesse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0"/>
          <p:cNvSpPr/>
          <p:nvPr/>
        </p:nvSpPr>
        <p:spPr>
          <a:xfrm>
            <a:off x="2819520" y="5616720"/>
            <a:ext cx="5240160" cy="70380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Want to Work” by Sherwood And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man and narr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Title 1" descr=""/>
          <p:cNvPicPr/>
          <p:nvPr/>
        </p:nvPicPr>
        <p:blipFill>
          <a:blip r:embed="rId1"/>
          <a:stretch/>
        </p:blipFill>
        <p:spPr>
          <a:xfrm>
            <a:off x="60480" y="122400"/>
            <a:ext cx="7486560" cy="1011240"/>
          </a:xfrm>
          <a:prstGeom prst="rect">
            <a:avLst/>
          </a:prstGeom>
          <a:ln w="0">
            <a:noFill/>
          </a:ln>
        </p:spPr>
      </p:pic>
      <p:sp>
        <p:nvSpPr>
          <p:cNvPr id="321" name="TextBox 2"/>
          <p:cNvSpPr/>
          <p:nvPr/>
        </p:nvSpPr>
        <p:spPr>
          <a:xfrm>
            <a:off x="201600" y="838080"/>
            <a:ext cx="7696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Exampl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6"/>
          <p:cNvSpPr/>
          <p:nvPr/>
        </p:nvSpPr>
        <p:spPr>
          <a:xfrm>
            <a:off x="351720" y="280836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c1f34"/>
                </a:solidFill>
                <a:latin typeface="Arial"/>
              </a:rPr>
              <a:t>Climax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11"/>
          <p:cNvSpPr/>
          <p:nvPr/>
        </p:nvSpPr>
        <p:spPr>
          <a:xfrm>
            <a:off x="228600" y="342432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the highest point of action, final strugg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3"/>
          <p:cNvSpPr/>
          <p:nvPr/>
        </p:nvSpPr>
        <p:spPr>
          <a:xfrm>
            <a:off x="2692440" y="2222640"/>
            <a:ext cx="524016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Hummingbird” un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ida is changed into a fl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5"/>
          <p:cNvSpPr/>
          <p:nvPr/>
        </p:nvSpPr>
        <p:spPr>
          <a:xfrm>
            <a:off x="2692440" y="3270240"/>
            <a:ext cx="524016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ven Thousand Virgins” Coll y To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the Gen. retreats from San Ju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7"/>
          <p:cNvSpPr/>
          <p:nvPr/>
        </p:nvSpPr>
        <p:spPr>
          <a:xfrm>
            <a:off x="2692440" y="4270320"/>
            <a:ext cx="5240160" cy="131364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Want to Work” by Sherwood And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man explains the severity of the economic crisis by comparing it to the Civil W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328" name="TextBox 2"/>
          <p:cNvSpPr/>
          <p:nvPr/>
        </p:nvSpPr>
        <p:spPr>
          <a:xfrm>
            <a:off x="351720" y="198108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c1f34"/>
                </a:solidFill>
                <a:latin typeface="Arial"/>
              </a:rPr>
              <a:t>Gen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3"/>
          <p:cNvSpPr/>
          <p:nvPr/>
        </p:nvSpPr>
        <p:spPr>
          <a:xfrm>
            <a:off x="344520" y="255600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-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-2 types or subgen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-one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2760840" y="2222640"/>
            <a:ext cx="52401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n f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2760840" y="2819520"/>
            <a:ext cx="52401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cro f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6"/>
          <p:cNvSpPr/>
          <p:nvPr/>
        </p:nvSpPr>
        <p:spPr>
          <a:xfrm>
            <a:off x="2760840" y="3400560"/>
            <a:ext cx="5240160" cy="39888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ash f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2760840" y="3943440"/>
            <a:ext cx="5240160" cy="39888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phic f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8"/>
          <p:cNvSpPr/>
          <p:nvPr/>
        </p:nvSpPr>
        <p:spPr>
          <a:xfrm>
            <a:off x="2743200" y="4476600"/>
            <a:ext cx="5240160" cy="39888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laborative f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Title 1" descr=""/>
          <p:cNvPicPr/>
          <p:nvPr/>
        </p:nvPicPr>
        <p:blipFill>
          <a:blip r:embed="rId1"/>
          <a:stretch/>
        </p:blipFill>
        <p:spPr>
          <a:xfrm>
            <a:off x="60480" y="122400"/>
            <a:ext cx="7486560" cy="1011240"/>
          </a:xfrm>
          <a:prstGeom prst="rect">
            <a:avLst/>
          </a:prstGeom>
          <a:ln w="0">
            <a:noFill/>
          </a:ln>
        </p:spPr>
      </p:pic>
      <p:sp>
        <p:nvSpPr>
          <p:cNvPr id="336" name="TextBox 2"/>
          <p:cNvSpPr/>
          <p:nvPr/>
        </p:nvSpPr>
        <p:spPr>
          <a:xfrm>
            <a:off x="533520" y="10303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Which genre and story did you like the most? 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"/>
          <p:cNvSpPr/>
          <p:nvPr/>
        </p:nvSpPr>
        <p:spPr>
          <a:xfrm>
            <a:off x="609480" y="2057400"/>
            <a:ext cx="624852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Hummingbird” Author un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th (Tain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2"/>
          <p:cNvSpPr/>
          <p:nvPr/>
        </p:nvSpPr>
        <p:spPr>
          <a:xfrm>
            <a:off x="609480" y="2971800"/>
            <a:ext cx="624852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ven Thousand Virgins” Cayetano Coll y To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gend (Puerto Ric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609480" y="3886200"/>
            <a:ext cx="624852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 Wars III: Revenge of the Sith” George Lu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ience f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0"/>
          <p:cNvSpPr/>
          <p:nvPr/>
        </p:nvSpPr>
        <p:spPr>
          <a:xfrm>
            <a:off x="622440" y="4800600"/>
            <a:ext cx="623556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akespeare in Love” John Madden (Dir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storical f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609480" y="5692680"/>
            <a:ext cx="623592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Want to Work” Sherwood And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cial rea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Box 2"/>
          <p:cNvSpPr/>
          <p:nvPr/>
        </p:nvSpPr>
        <p:spPr>
          <a:xfrm>
            <a:off x="618480" y="20574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it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3"/>
          <p:cNvSpPr/>
          <p:nvPr/>
        </p:nvSpPr>
        <p:spPr>
          <a:xfrm>
            <a:off x="3260880" y="206856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leven Thousand Virgin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"/>
          <p:cNvSpPr/>
          <p:nvPr/>
        </p:nvSpPr>
        <p:spPr>
          <a:xfrm>
            <a:off x="534960" y="304920"/>
            <a:ext cx="6794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ights in the city are multiplying and now it seems they are coming toward us!” said the sentinel to the Gener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5"/>
          <p:cNvSpPr/>
          <p:nvPr/>
        </p:nvSpPr>
        <p:spPr>
          <a:xfrm>
            <a:off x="624600" y="243828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uth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6"/>
          <p:cNvSpPr/>
          <p:nvPr/>
        </p:nvSpPr>
        <p:spPr>
          <a:xfrm>
            <a:off x="3443040" y="2438280"/>
            <a:ext cx="33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yetano Coll y To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7"/>
          <p:cNvSpPr/>
          <p:nvPr/>
        </p:nvSpPr>
        <p:spPr>
          <a:xfrm>
            <a:off x="678240" y="3505320"/>
            <a:ext cx="197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art of pl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8"/>
          <p:cNvSpPr/>
          <p:nvPr/>
        </p:nvSpPr>
        <p:spPr>
          <a:xfrm>
            <a:off x="3495600" y="3479760"/>
            <a:ext cx="35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ising action or Clim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9"/>
          <p:cNvSpPr/>
          <p:nvPr/>
        </p:nvSpPr>
        <p:spPr>
          <a:xfrm>
            <a:off x="600840" y="30193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en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0"/>
          <p:cNvSpPr/>
          <p:nvPr/>
        </p:nvSpPr>
        <p:spPr>
          <a:xfrm>
            <a:off x="3420720" y="2971800"/>
            <a:ext cx="12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g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1"/>
          <p:cNvSpPr/>
          <p:nvPr/>
        </p:nvSpPr>
        <p:spPr>
          <a:xfrm>
            <a:off x="558000" y="395748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t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2"/>
          <p:cNvSpPr/>
          <p:nvPr/>
        </p:nvSpPr>
        <p:spPr>
          <a:xfrm>
            <a:off x="2651040" y="39625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an Juan Puerto Rico, 17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3"/>
          <p:cNvSpPr/>
          <p:nvPr/>
        </p:nvSpPr>
        <p:spPr>
          <a:xfrm>
            <a:off x="335160" y="6167520"/>
            <a:ext cx="194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solu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5"/>
          <p:cNvSpPr/>
          <p:nvPr/>
        </p:nvSpPr>
        <p:spPr>
          <a:xfrm>
            <a:off x="2835360" y="616752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nglish retreat to shi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4"/>
          <p:cNvSpPr/>
          <p:nvPr/>
        </p:nvSpPr>
        <p:spPr>
          <a:xfrm>
            <a:off x="302040" y="4338720"/>
            <a:ext cx="255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rical fac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6"/>
          <p:cNvSpPr/>
          <p:nvPr/>
        </p:nvSpPr>
        <p:spPr>
          <a:xfrm>
            <a:off x="2803680" y="4338720"/>
            <a:ext cx="534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nglish invasion in 17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en. Abercromby, Gov.  De Cas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ishop Trespalacios, la rogativa procession in honor of Sta. Ursula &amp; the Eleven Virg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Box 2"/>
          <p:cNvSpPr/>
          <p:nvPr/>
        </p:nvSpPr>
        <p:spPr>
          <a:xfrm>
            <a:off x="786960" y="29034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it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3"/>
          <p:cNvSpPr/>
          <p:nvPr/>
        </p:nvSpPr>
        <p:spPr>
          <a:xfrm>
            <a:off x="3429000" y="291456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 Want to Wor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5"/>
          <p:cNvSpPr/>
          <p:nvPr/>
        </p:nvSpPr>
        <p:spPr>
          <a:xfrm>
            <a:off x="793080" y="328464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uth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6"/>
          <p:cNvSpPr/>
          <p:nvPr/>
        </p:nvSpPr>
        <p:spPr>
          <a:xfrm>
            <a:off x="3615480" y="3284640"/>
            <a:ext cx="31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herwood And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7"/>
          <p:cNvSpPr/>
          <p:nvPr/>
        </p:nvSpPr>
        <p:spPr>
          <a:xfrm>
            <a:off x="845280" y="37339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en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8"/>
          <p:cNvSpPr/>
          <p:nvPr/>
        </p:nvSpPr>
        <p:spPr>
          <a:xfrm>
            <a:off x="3659040" y="37339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ocial rea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9"/>
          <p:cNvSpPr/>
          <p:nvPr/>
        </p:nvSpPr>
        <p:spPr>
          <a:xfrm>
            <a:off x="770040" y="4267080"/>
            <a:ext cx="197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art of pl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0"/>
          <p:cNvSpPr/>
          <p:nvPr/>
        </p:nvSpPr>
        <p:spPr>
          <a:xfrm>
            <a:off x="3515040" y="4267080"/>
            <a:ext cx="20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ising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1"/>
          <p:cNvSpPr/>
          <p:nvPr/>
        </p:nvSpPr>
        <p:spPr>
          <a:xfrm>
            <a:off x="695160" y="4724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urpo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2"/>
          <p:cNvSpPr/>
          <p:nvPr/>
        </p:nvSpPr>
        <p:spPr>
          <a:xfrm>
            <a:off x="2895480" y="472428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o valorize unemployed working men; expose the ignorance of people in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"/>
          <p:cNvSpPr/>
          <p:nvPr/>
        </p:nvSpPr>
        <p:spPr>
          <a:xfrm>
            <a:off x="304920" y="95400"/>
            <a:ext cx="7751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sat in two chairs by a window that looked down on the factories while we drank our beer and talked. An old feeling, so common in American men, concerned with modern industry – was pride in the very thing that has apparentl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rown his life out of ge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Box 2"/>
          <p:cNvSpPr/>
          <p:nvPr/>
        </p:nvSpPr>
        <p:spPr>
          <a:xfrm>
            <a:off x="610560" y="22860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it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3"/>
          <p:cNvSpPr/>
          <p:nvPr/>
        </p:nvSpPr>
        <p:spPr>
          <a:xfrm>
            <a:off x="3252960" y="229716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Hummingbir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"/>
          <p:cNvSpPr/>
          <p:nvPr/>
        </p:nvSpPr>
        <p:spPr>
          <a:xfrm>
            <a:off x="380880" y="262080"/>
            <a:ext cx="786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ida was grief stricken and prayed to her god for help. “Do not let me marry this man whom I do not love!” The god took pity on her and changed her into a beautiful red flow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5"/>
          <p:cNvSpPr/>
          <p:nvPr/>
        </p:nvSpPr>
        <p:spPr>
          <a:xfrm>
            <a:off x="616680" y="266688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uth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6"/>
          <p:cNvSpPr/>
          <p:nvPr/>
        </p:nvSpPr>
        <p:spPr>
          <a:xfrm>
            <a:off x="3436920" y="266688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n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7"/>
          <p:cNvSpPr/>
          <p:nvPr/>
        </p:nvSpPr>
        <p:spPr>
          <a:xfrm>
            <a:off x="669600" y="327168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en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8"/>
          <p:cNvSpPr/>
          <p:nvPr/>
        </p:nvSpPr>
        <p:spPr>
          <a:xfrm>
            <a:off x="3477600" y="327168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9"/>
          <p:cNvSpPr/>
          <p:nvPr/>
        </p:nvSpPr>
        <p:spPr>
          <a:xfrm>
            <a:off x="733680" y="3886200"/>
            <a:ext cx="197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art of pl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0"/>
          <p:cNvSpPr/>
          <p:nvPr/>
        </p:nvSpPr>
        <p:spPr>
          <a:xfrm>
            <a:off x="3491280" y="3809880"/>
            <a:ext cx="20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ising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1"/>
          <p:cNvSpPr/>
          <p:nvPr/>
        </p:nvSpPr>
        <p:spPr>
          <a:xfrm>
            <a:off x="662040" y="44197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urpo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12"/>
          <p:cNvSpPr/>
          <p:nvPr/>
        </p:nvSpPr>
        <p:spPr>
          <a:xfrm>
            <a:off x="3481560" y="4270320"/>
            <a:ext cx="4495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o explain how hummingbirds came into existence and why they hum and flit from flower to f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3"/>
          <p:cNvSpPr/>
          <p:nvPr/>
        </p:nvSpPr>
        <p:spPr>
          <a:xfrm>
            <a:off x="679680" y="5938920"/>
            <a:ext cx="194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solu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4"/>
          <p:cNvSpPr/>
          <p:nvPr/>
        </p:nvSpPr>
        <p:spPr>
          <a:xfrm>
            <a:off x="3405240" y="5938920"/>
            <a:ext cx="447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ummingbird is Taroo always looking for Alida the flow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Box 2"/>
          <p:cNvSpPr/>
          <p:nvPr/>
        </p:nvSpPr>
        <p:spPr>
          <a:xfrm>
            <a:off x="515520" y="26622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it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3"/>
          <p:cNvSpPr/>
          <p:nvPr/>
        </p:nvSpPr>
        <p:spPr>
          <a:xfrm>
            <a:off x="2832120" y="2602080"/>
            <a:ext cx="53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ar Wars III: Revenge of the Sith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"/>
          <p:cNvSpPr/>
          <p:nvPr/>
        </p:nvSpPr>
        <p:spPr>
          <a:xfrm>
            <a:off x="228600" y="76320"/>
            <a:ext cx="7467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stunning move, the fiendish droid leader, General Grievous has swept into the Republic capital and kidnapped Chancellor Palpatine, leader of the Galactic Sena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5"/>
          <p:cNvSpPr/>
          <p:nvPr/>
        </p:nvSpPr>
        <p:spPr>
          <a:xfrm>
            <a:off x="527760" y="311940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uth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6"/>
          <p:cNvSpPr/>
          <p:nvPr/>
        </p:nvSpPr>
        <p:spPr>
          <a:xfrm>
            <a:off x="2990520" y="3048120"/>
            <a:ext cx="36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eorge Lucas (Direc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7"/>
          <p:cNvSpPr/>
          <p:nvPr/>
        </p:nvSpPr>
        <p:spPr>
          <a:xfrm>
            <a:off x="527760" y="350028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en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8"/>
          <p:cNvSpPr/>
          <p:nvPr/>
        </p:nvSpPr>
        <p:spPr>
          <a:xfrm>
            <a:off x="3059640" y="3505320"/>
            <a:ext cx="24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cience F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9"/>
          <p:cNvSpPr/>
          <p:nvPr/>
        </p:nvSpPr>
        <p:spPr>
          <a:xfrm>
            <a:off x="605160" y="4038480"/>
            <a:ext cx="197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art of pl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0"/>
          <p:cNvSpPr/>
          <p:nvPr/>
        </p:nvSpPr>
        <p:spPr>
          <a:xfrm>
            <a:off x="3066120" y="403848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1"/>
          <p:cNvSpPr/>
          <p:nvPr/>
        </p:nvSpPr>
        <p:spPr>
          <a:xfrm>
            <a:off x="522360" y="4557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ype of SciF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2"/>
          <p:cNvSpPr/>
          <p:nvPr/>
        </p:nvSpPr>
        <p:spPr>
          <a:xfrm>
            <a:off x="3137040" y="4567320"/>
            <a:ext cx="53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ntasy adven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5"/>
          <p:cNvSpPr/>
          <p:nvPr/>
        </p:nvSpPr>
        <p:spPr>
          <a:xfrm>
            <a:off x="533520" y="502452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lements of SciF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6"/>
          <p:cNvSpPr/>
          <p:nvPr/>
        </p:nvSpPr>
        <p:spPr>
          <a:xfrm>
            <a:off x="3048120" y="5024520"/>
            <a:ext cx="532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uturistic setting, advanced technology, droids &amp; rob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Box 2"/>
          <p:cNvSpPr/>
          <p:nvPr/>
        </p:nvSpPr>
        <p:spPr>
          <a:xfrm>
            <a:off x="515520" y="328284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it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3"/>
          <p:cNvSpPr/>
          <p:nvPr/>
        </p:nvSpPr>
        <p:spPr>
          <a:xfrm>
            <a:off x="2832120" y="3222720"/>
            <a:ext cx="53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hakespeare  in Lov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"/>
          <p:cNvSpPr/>
          <p:nvPr/>
        </p:nvSpPr>
        <p:spPr>
          <a:xfrm>
            <a:off x="228600" y="76320"/>
            <a:ext cx="7467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d0d0d"/>
                </a:solidFill>
                <a:uFillTx/>
                <a:latin typeface="Arial"/>
              </a:rPr>
              <a:t>Will</a:t>
            </a:r>
            <a:r>
              <a:rPr b="0" lang="en-US" sz="2800" spc="-1" strike="noStrike">
                <a:solidFill>
                  <a:srgbClr val="0d0d0d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tit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hristopher Marlow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Yours? 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ill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"Romeo and Ethel the Pirate's Daughter". - Oh, yes, I know, I know. 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hristopher Marlow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What is the story? 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ill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ell, there's this pirate. - In truth I have not written a wor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5"/>
          <p:cNvSpPr/>
          <p:nvPr/>
        </p:nvSpPr>
        <p:spPr>
          <a:xfrm>
            <a:off x="527760" y="374004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uth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6"/>
          <p:cNvSpPr/>
          <p:nvPr/>
        </p:nvSpPr>
        <p:spPr>
          <a:xfrm>
            <a:off x="2989080" y="3668760"/>
            <a:ext cx="36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John Madden (Direc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7"/>
          <p:cNvSpPr/>
          <p:nvPr/>
        </p:nvSpPr>
        <p:spPr>
          <a:xfrm>
            <a:off x="527760" y="412128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en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8"/>
          <p:cNvSpPr/>
          <p:nvPr/>
        </p:nvSpPr>
        <p:spPr>
          <a:xfrm>
            <a:off x="3060000" y="4125960"/>
            <a:ext cx="26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rical F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9"/>
          <p:cNvSpPr/>
          <p:nvPr/>
        </p:nvSpPr>
        <p:spPr>
          <a:xfrm>
            <a:off x="605160" y="4659480"/>
            <a:ext cx="197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art of pl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10"/>
          <p:cNvSpPr/>
          <p:nvPr/>
        </p:nvSpPr>
        <p:spPr>
          <a:xfrm>
            <a:off x="3066120" y="465948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11"/>
          <p:cNvSpPr/>
          <p:nvPr/>
        </p:nvSpPr>
        <p:spPr>
          <a:xfrm>
            <a:off x="522360" y="51786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ype of HisF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2"/>
          <p:cNvSpPr/>
          <p:nvPr/>
        </p:nvSpPr>
        <p:spPr>
          <a:xfrm>
            <a:off x="3137040" y="5187960"/>
            <a:ext cx="53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rical figures, fictio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15"/>
          <p:cNvSpPr/>
          <p:nvPr/>
        </p:nvSpPr>
        <p:spPr>
          <a:xfrm>
            <a:off x="533520" y="564516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t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16"/>
          <p:cNvSpPr/>
          <p:nvPr/>
        </p:nvSpPr>
        <p:spPr>
          <a:xfrm>
            <a:off x="3048120" y="5645160"/>
            <a:ext cx="53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590s Elizabethan Eng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4"/>
          <p:cNvSpPr/>
          <p:nvPr/>
        </p:nvSpPr>
        <p:spPr>
          <a:xfrm>
            <a:off x="533520" y="601488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rical fac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17"/>
          <p:cNvSpPr/>
          <p:nvPr/>
        </p:nvSpPr>
        <p:spPr>
          <a:xfrm>
            <a:off x="3048120" y="6014880"/>
            <a:ext cx="532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hakespeare, Viola, theatre, Queen Elizabeth, Christopher Marlow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Title 1" descr=""/>
          <p:cNvPicPr/>
          <p:nvPr/>
        </p:nvPicPr>
        <p:blipFill>
          <a:blip r:embed="rId1"/>
          <a:stretch/>
        </p:blipFill>
        <p:spPr>
          <a:xfrm>
            <a:off x="60480" y="122400"/>
            <a:ext cx="7486560" cy="1011240"/>
          </a:xfrm>
          <a:prstGeom prst="rect">
            <a:avLst/>
          </a:prstGeom>
          <a:ln w="0">
            <a:noFill/>
          </a:ln>
        </p:spPr>
      </p:pic>
      <p:sp>
        <p:nvSpPr>
          <p:cNvPr id="297" name="TextBox 6"/>
          <p:cNvSpPr/>
          <p:nvPr/>
        </p:nvSpPr>
        <p:spPr>
          <a:xfrm>
            <a:off x="614880" y="121932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c1f34"/>
                </a:solidFill>
                <a:latin typeface="Arial"/>
              </a:rPr>
              <a:t>My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"/>
          <p:cNvSpPr/>
          <p:nvPr/>
        </p:nvSpPr>
        <p:spPr>
          <a:xfrm>
            <a:off x="1600200" y="1217520"/>
            <a:ext cx="6324480" cy="1618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et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 period: timeless, general past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haracte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etypal, often gods appear or fantastical cr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8"/>
          <p:cNvSpPr/>
          <p:nvPr/>
        </p:nvSpPr>
        <p:spPr>
          <a:xfrm>
            <a:off x="279000" y="3576600"/>
            <a:ext cx="12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c1f34"/>
                </a:solidFill>
                <a:latin typeface="Arial"/>
              </a:rPr>
              <a:t>Leg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1600200" y="3549600"/>
            <a:ext cx="6324480" cy="161856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et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cific historical time period (year, e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haracte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ludes real historical figures, and sometimes fictional 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Box 1"/>
          <p:cNvSpPr/>
          <p:nvPr/>
        </p:nvSpPr>
        <p:spPr>
          <a:xfrm>
            <a:off x="389160" y="838080"/>
            <a:ext cx="13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c1f34"/>
                </a:solidFill>
                <a:latin typeface="Arial"/>
              </a:rPr>
              <a:t>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c1f34"/>
                </a:solidFill>
                <a:latin typeface="Arial"/>
              </a:rPr>
              <a:t>F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2"/>
          <p:cNvSpPr/>
          <p:nvPr/>
        </p:nvSpPr>
        <p:spPr>
          <a:xfrm>
            <a:off x="1752480" y="914400"/>
            <a:ext cx="6096240" cy="161856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et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 period: future / other planets, galax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haracte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ludes robotic, androids, aliens, other futuristic cr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3"/>
          <p:cNvSpPr/>
          <p:nvPr/>
        </p:nvSpPr>
        <p:spPr>
          <a:xfrm>
            <a:off x="160560" y="2674800"/>
            <a:ext cx="157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c1f34"/>
                </a:solidFill>
                <a:latin typeface="Arial"/>
              </a:rPr>
              <a:t>Histor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c1f34"/>
                </a:solidFill>
                <a:latin typeface="Arial"/>
              </a:rPr>
              <a:t>F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1752480" y="2717640"/>
            <a:ext cx="6096240" cy="1923480"/>
          </a:xfrm>
          <a:prstGeom prst="rect">
            <a:avLst/>
          </a:prstGeom>
          <a:noFill/>
          <a:ln w="9360">
            <a:solidFill>
              <a:srgbClr val="a34b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et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 period: historical period at least 20 years before the work is writ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haracte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ludes real historical figures mixed with fictional characters, some real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5"/>
          <p:cNvSpPr/>
          <p:nvPr/>
        </p:nvSpPr>
        <p:spPr>
          <a:xfrm>
            <a:off x="237240" y="4656240"/>
            <a:ext cx="134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c1f34"/>
                </a:solidFill>
                <a:latin typeface="Arial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c1f34"/>
                </a:solidFill>
                <a:latin typeface="Arial"/>
              </a:rPr>
              <a:t>Rea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1752480" y="4844880"/>
            <a:ext cx="6096240" cy="1618560"/>
          </a:xfrm>
          <a:prstGeom prst="rect">
            <a:avLst/>
          </a:prstGeom>
          <a:noFill/>
          <a:ln w="9360">
            <a:solidFill>
              <a:srgbClr val="e364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et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 period: contemporary (to when it is writt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haracte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ginal people as heroes, powerful people are villains or exposed as immoral or incompe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60480" y="122400"/>
            <a:ext cx="7486560" cy="1011240"/>
          </a:xfrm>
          <a:prstGeom prst="rect">
            <a:avLst/>
          </a:prstGeom>
          <a:ln w="0">
            <a:noFill/>
          </a:ln>
        </p:spPr>
      </p:pic>
      <p:sp>
        <p:nvSpPr>
          <p:cNvPr id="308" name="TextBox 2"/>
          <p:cNvSpPr/>
          <p:nvPr/>
        </p:nvSpPr>
        <p:spPr>
          <a:xfrm>
            <a:off x="201600" y="838080"/>
            <a:ext cx="7696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Exampl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2"/>
          <p:cNvSpPr/>
          <p:nvPr/>
        </p:nvSpPr>
        <p:spPr>
          <a:xfrm>
            <a:off x="838080" y="1530360"/>
            <a:ext cx="7059600" cy="2228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ven Thousand Virgins” Coll y To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uss information abo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uth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Coll y To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e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legend / failed inva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udien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(original audience) Puerto Ricans in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20s after U.S. colo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9"/>
          <p:cNvSpPr/>
          <p:nvPr/>
        </p:nvSpPr>
        <p:spPr>
          <a:xfrm>
            <a:off x="838080" y="4214880"/>
            <a:ext cx="7059600" cy="1618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Want to Work” Sherwood And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uss information abo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uth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And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e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social realism / worker’s right, labor m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udien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(original audience) 1930s US Americ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0T02:04:45Z</dcterms:created>
  <dc:creator>Petra</dc:creator>
  <dc:description/>
  <dc:language>en-US</dc:language>
  <cp:lastModifiedBy>Sally Everson</cp:lastModifiedBy>
  <dcterms:modified xsi:type="dcterms:W3CDTF">2011-06-28T16:36:57Z</dcterms:modified>
  <cp:revision>76</cp:revision>
  <dc:subject/>
  <dc:title>Literary terms &amp; devices</dc:title>
</cp:coreProperties>
</file>